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6E40-2EB3-4702-92B0-8AB2A175B7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44F-820E-4F4A-A318-72D4D457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AF9-CB23-4DA8-9E62-F58DB619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D38-A604-4664-8C39-693CA1FF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1EC-2445-4C12-9938-2C10345D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5315-1B41-424A-AE6F-CC2B0F3C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2C7A-71E1-4B9A-8C44-78488A72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ED9E-9C14-457A-B7F9-70F23689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D3C5-A905-4985-A928-18053663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095B-33D5-4276-B29A-CF5261CA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1F44-9535-4D71-AC08-96C0255F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0160-C62A-49AD-934A-54509FA2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8DA-3D14-4618-AAB0-6D565138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4F37-CEAD-4B24-9B98-438E5E1B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8470-1C97-4FB5-9F4E-5DA3695F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E916-ACBF-4180-BD23-B4B63958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2955-98F7-4A7E-A24A-6E6D3454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CEC6-F814-4450-BA04-93C362FA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30A-5439-453A-A541-04BEA1FE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F27-EAF3-47F1-BF5F-EBD3F38E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B39-74DF-49FE-A7B9-587A922D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BBC-9848-4199-8E0D-5CED441C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198-CBDE-4424-97D1-909E6C99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BB4-0B61-4E26-A295-7C67E880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45C-0BD9-4AA2-BEB9-C6265C4A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FD3E-FE16-454F-ACB9-F6BDB7A29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7D92-C81D-4ED0-B58B-5D19E8A01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1600200" y="2914560"/>
            <a:ext cx="344808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752480" cy="14256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914400" y="281952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9907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066680" y="4648320"/>
            <a:ext cx="533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2209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752480" y="4800600"/>
          <a:ext cx="594360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800600"/>
                    <a:ext cx="59436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838080" y="228600"/>
            <a:ext cx="7620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add or subtract radicals like monomials. You can also simplify radicals by using the FOIL method of multiplying binomi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3"/>
          <p:cNvGraphicFramePr/>
          <p:nvPr/>
        </p:nvGraphicFramePr>
        <p:xfrm>
          <a:off x="838080" y="5181480"/>
          <a:ext cx="7086600" cy="8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181480"/>
                    <a:ext cx="708660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4"/>
          <p:cNvSpPr/>
          <p:nvPr/>
        </p:nvSpPr>
        <p:spPr>
          <a:xfrm>
            <a:off x="1523880" y="40384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try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Object 2"/>
          <p:cNvGraphicFramePr/>
          <p:nvPr/>
        </p:nvGraphicFramePr>
        <p:xfrm>
          <a:off x="1447920" y="304920"/>
          <a:ext cx="5932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920"/>
                    <a:ext cx="5932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3"/>
          <p:cNvGraphicFramePr/>
          <p:nvPr/>
        </p:nvGraphicFramePr>
        <p:xfrm>
          <a:off x="228600" y="1752480"/>
          <a:ext cx="86868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8686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4"/>
          <p:cNvGraphicFramePr/>
          <p:nvPr/>
        </p:nvGraphicFramePr>
        <p:xfrm>
          <a:off x="1219320" y="3276720"/>
          <a:ext cx="665460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276720"/>
                    <a:ext cx="66546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5"/>
          <p:cNvGraphicFramePr/>
          <p:nvPr/>
        </p:nvGraphicFramePr>
        <p:xfrm>
          <a:off x="1600200" y="4267080"/>
          <a:ext cx="552456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267080"/>
                    <a:ext cx="55245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6"/>
          <p:cNvSpPr/>
          <p:nvPr/>
        </p:nvSpPr>
        <p:spPr>
          <a:xfrm>
            <a:off x="762120" y="5425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ce  there are no like terms, you can not comb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286000" y="4572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s do another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1905120" y="1828800"/>
          <a:ext cx="48639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4863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"/>
          <p:cNvGraphicFramePr/>
          <p:nvPr/>
        </p:nvGraphicFramePr>
        <p:xfrm>
          <a:off x="609480" y="2895480"/>
          <a:ext cx="81406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8140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5"/>
          <p:cNvGraphicFramePr/>
          <p:nvPr/>
        </p:nvGraphicFramePr>
        <p:xfrm>
          <a:off x="1371600" y="3809880"/>
          <a:ext cx="648972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809880"/>
                    <a:ext cx="6489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6"/>
          <p:cNvGraphicFramePr/>
          <p:nvPr/>
        </p:nvGraphicFramePr>
        <p:xfrm>
          <a:off x="3505320" y="4876920"/>
          <a:ext cx="185400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876920"/>
                    <a:ext cx="18540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7"/>
          <p:cNvGraphicFramePr/>
          <p:nvPr/>
        </p:nvGraphicFramePr>
        <p:xfrm>
          <a:off x="3733920" y="5715000"/>
          <a:ext cx="1104840" cy="57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5715000"/>
                    <a:ext cx="11048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22860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the prod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2133720" y="1066680"/>
          <a:ext cx="4419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419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4"/>
          <p:cNvGraphicFramePr/>
          <p:nvPr/>
        </p:nvGraphicFramePr>
        <p:xfrm>
          <a:off x="228600" y="2514600"/>
          <a:ext cx="129528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14600"/>
                    <a:ext cx="12952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28600" y="3505320"/>
          <a:ext cx="4462560" cy="80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505320"/>
                    <a:ext cx="44625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6"/>
          <p:cNvGraphicFramePr/>
          <p:nvPr/>
        </p:nvGraphicFramePr>
        <p:xfrm>
          <a:off x="228600" y="4495680"/>
          <a:ext cx="36576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495680"/>
                    <a:ext cx="36576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7"/>
          <p:cNvGraphicFramePr/>
          <p:nvPr/>
        </p:nvGraphicFramePr>
        <p:xfrm>
          <a:off x="1523880" y="2438280"/>
          <a:ext cx="1828800" cy="78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2438280"/>
                    <a:ext cx="182880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8"/>
          <p:cNvGraphicFramePr/>
          <p:nvPr/>
        </p:nvGraphicFramePr>
        <p:xfrm>
          <a:off x="3352680" y="2362320"/>
          <a:ext cx="2057400" cy="83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2362320"/>
                    <a:ext cx="20574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9"/>
          <p:cNvGraphicFramePr/>
          <p:nvPr/>
        </p:nvGraphicFramePr>
        <p:xfrm>
          <a:off x="5410080" y="2362320"/>
          <a:ext cx="3429000" cy="83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2362320"/>
                    <a:ext cx="34290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y on Your Ow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371600" y="1752480"/>
                <a:ext cx="3200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1295280" y="4038480"/>
                <a:ext cx="3048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55:22Z</dcterms:created>
  <dc:creator>esther</dc:creator>
  <dc:description/>
  <dc:language>en-US</dc:language>
  <cp:lastModifiedBy>RomaK</cp:lastModifiedBy>
  <dcterms:modified xsi:type="dcterms:W3CDTF">2015-09-04T07:40:34Z</dcterms:modified>
  <cp:revision>7</cp:revision>
  <dc:subject/>
  <dc:title>Slide 1</dc:title>
</cp:coreProperties>
</file>